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6016-007D-4796-91D0-E70B7AB39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E8DF-3E63-4E88-87A7-73F7B979A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D88D-99A9-49C5-A638-C651F60D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3FA-B63C-4A4C-A21B-7336D10F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582F-3707-4EDF-9D8C-3AD35217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F15-30B6-4C1D-9CD1-49ACBA20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7CDA-0C26-40EE-B2B1-6A83BE36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E2E9-E592-47E5-A772-DAD06F62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087-BA15-4B63-89FD-FD1AFBCE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BEC4-E939-4A4D-AA1C-04520EDF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B6B-58BE-4701-95DB-C778090A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967-BBD8-445D-9564-BA808AA4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267B-1F70-4130-B980-EA774CB4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3FE7-35CC-4848-963D-E24588AE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3D4E-755D-4405-B6AA-C7F3287FE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isha Mohanl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isha Mohan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os días, como esta su dí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200400"/>
            <a:ext cx="220968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Manisha. Yo vivo New York, Queens. Yo tengo catorce años. Yo  tengo un hermáno mayun, sue es Steven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27672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73356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 a tú mi amór!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438280"/>
            <a:ext cx="388620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Buenas tardes!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1 hour ago.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! Mi día es  muy bueno y tú?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¿qué estás haciendo. 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Hola lindó! Yo quérie comer helado y tú?  Te guesta:  Commentario  5 sceonds ago   December 5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4:40:40Z</dcterms:created>
  <dc:creator>FriscoISD</dc:creator>
  <dc:description/>
  <dc:language>en-US</dc:language>
  <cp:lastModifiedBy>User</cp:lastModifiedBy>
  <dcterms:modified xsi:type="dcterms:W3CDTF">2012-12-05T14:57:11Z</dcterms:modified>
  <cp:revision>105</cp:revision>
  <dc:subject/>
  <dc:title>Profile</dc:title>
</cp:coreProperties>
</file>